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51CA-0008-45CE-80C8-D257C060E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EC88-BA47-49FB-BF5A-11CDC8AAB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374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3-</a:t>
            </a:r>
            <a:fld id="{C0839037-EB30-4869-997E-F7672ED5E43C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640" y="1825560"/>
            <a:ext cx="788688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3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rategy, Balanced Scorecard, and Strategic Profitability Analys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vity measures the relationship between actual inputs used and actual outputs achiev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rtial Produ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Quantity of output produced / Quantity of input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1,150,000 units / 2,900,000 cm</a:t>
            </a:r>
            <a:r>
              <a:rPr b="1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of direct mater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0.40 units per cm</a:t>
            </a:r>
            <a:r>
              <a:rPr b="1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of direct 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Factor Produ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Quantity of output produced / Quantity of all input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1,150,000 units / $23,50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0.048936 units of output per dollar of in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228240" y="162000"/>
            <a:ext cx="837396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ivity Measur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15 - 5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ategic Profitabil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447560"/>
            <a:ext cx="82980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y describes how an organization matches its own capabilities with opportunities in the marketplace in order to achieve its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ustry analysis focuses on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eti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otential entrants into the mark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valent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rgaining power of 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rgaining power of suppli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2 - 49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62000"/>
            <a:ext cx="87552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ategic Profitability Analysi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2976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differentiation refers to the organization’s ability to make its products or services uniq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leadership occurs when the organization is able to reduce costs, relative to competitors, through productivity and efficiency improvemen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2 - 49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lanced Scorec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Balanced Scorecard translates an organization’s mission and strategy into a comprehensive set of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ments provide feedback on how well the organization is implementing its strateg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ed emphasis on short-term financial go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 Elements of the Balanced Scorecar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ternal business process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earning and grow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3 - 49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of Balanced Scorec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324080"/>
            <a:ext cx="8755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arg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bj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asur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formanc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ial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ain in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,000,0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,520,00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 growt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.48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ustom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ew customer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ustomer satisfactio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0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7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terna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Yie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78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79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n-time deliver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2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0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rning &amp;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mployees train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0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2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wt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mployee satisfactio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0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8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# of improvemen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2057400"/>
            <a:ext cx="87631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9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eatures of a Good Balanced Scorec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145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lls the story of the company’s strategy by articulating a sequence of cause-effect relationship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elps communicate the strategy to all members of the organization by translating the strategy into a coherent and linked set of understandable targe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profit-seeking companies, places strong emphasis on financial measures and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mits the number of measures used by identifying only the most critical on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ighlights suboptimal tradeoffs that managers may make when they tail to consider operational and financial measures toge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8 - 49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tfalls Implementing a Balanced Scoreca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324080"/>
            <a:ext cx="8001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assume the cause-and-effect linkages to be preci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seek improvements across all measures all the ti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use only objective measures on the scorecar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fail to consider both costs and benefits of initia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ignore non-financial measures when evaluating managers and employe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343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9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gineered and Discretionary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gineere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ult specifically from a clear cause-effect relationship between output and resource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cretionary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which arise from a periodic appropriation decis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ck a clear cause-effect relationship between output and resource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ertising, executive training, R&amp;D, public rel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5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82980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ngineer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scretionar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 o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tailed and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Knowledge of th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ivit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hysicall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 is sketchy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bservabl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r unavailabl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peti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repetitiv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vel of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oderat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arg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certaint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r smal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Downsizing (or rightsizing) is process of matching resources with current and future need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Difficult for discretionary costs as ideal amount is unknown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wnsizing and Capacity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90920" y="1981080"/>
            <a:ext cx="56386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07 - 51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4T00:46:04Z</dcterms:created>
  <dc:creator>User</dc:creator>
  <dc:description/>
  <dc:language>en-US</dc:language>
  <cp:lastModifiedBy>John Moore</cp:lastModifiedBy>
  <dcterms:modified xsi:type="dcterms:W3CDTF">2003-03-22T13:17:37Z</dcterms:modified>
  <cp:revision>14</cp:revision>
  <dc:subject/>
  <dc:title>Strategic Profitability Analysis</dc:title>
</cp:coreProperties>
</file>